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55CB-E8EC-4DE7-AA30-808945346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3876-A851-4762-B884-98970FE71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82AC-AD7F-44B5-8F4D-2C6F5AC9A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2ABD-B507-4427-81E7-22EAABEF4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32C1-9F81-415D-BA58-3808E375D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254F-05F3-4BD4-A3A5-70A0CB16D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27A3-4027-4B3A-B5E5-C2F0B51FE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7230-4142-4A2E-AEAC-728CEB15E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93E0-F760-44D8-92A0-AFAB0E198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D16F-B8A1-4F56-B509-8F65FFF10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FE79-C88C-4996-B2F9-13EF4E881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B7D2-7489-496A-B5AC-2468D104C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4A195-265C-4B79-9FE9-D5731300B425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859280" y="4005360"/>
            <a:ext cx="4284720" cy="28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000000"/>
                </a:solidFill>
                <a:latin typeface="Tahoma"/>
                <a:cs typeface="????Boutros Rokaa"/>
              </a:rPr>
              <a:t>ربي جسدك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44" name=""/>
          <p:cNvSpPr/>
          <p:nvPr/>
        </p:nvSpPr>
        <p:spPr>
          <a:xfrm>
            <a:off x="0" y="1989000"/>
            <a:ext cx="5545080" cy="2820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ربّي جسدُكَ مأكَلٌ حقاً ربّي دَمُكَ مشرَبٌ حقاً طوبى لمن يرتَوي منهما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042920" y="3527280"/>
            <a:ext cx="7345440" cy="2976840"/>
          </a:xfrm>
          <a:prstGeom prst="rect">
            <a:avLst/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3624120"/>
            <a:ext cx="9144000" cy="4517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imes New Roman"/>
                <a:cs typeface="Akhbar MT"/>
              </a:rPr>
              <a:t>كالأغصانِ اثبَتوا فيَّ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imes New Roman"/>
                <a:cs typeface="Akhbar MT"/>
              </a:rPr>
              <a:t>تأتوا بثِمارٍ جمّه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87280" y="3624120"/>
            <a:ext cx="7129800" cy="5992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imes New Roman"/>
                <a:cs typeface="Akhbar MT"/>
              </a:rPr>
              <a:t>قَالَ الرَّبُ أَنَا الْكَرْمَه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imes New Roman"/>
                <a:cs typeface="Akhbar MT"/>
              </a:rPr>
              <a:t>أَنْتُمْ أَغْصَانُ الْكَرْمَه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1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1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49" name=""/>
          <p:cNvSpPr/>
          <p:nvPr/>
        </p:nvSpPr>
        <p:spPr>
          <a:xfrm>
            <a:off x="0" y="1989000"/>
            <a:ext cx="5545080" cy="2820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ربّي جسدُكَ مأكَلٌ حقاً ربّي دَمُكَ مشرَبٌ حقاً طوبى لمن يرتَوي منهما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51" name=""/>
          <p:cNvSpPr/>
          <p:nvPr/>
        </p:nvSpPr>
        <p:spPr>
          <a:xfrm>
            <a:off x="0" y="1989000"/>
            <a:ext cx="4643280" cy="2820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مثلَ الهائِمِ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في الصحراء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يَبحَثُ عن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قَطَراتِ الماء 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-642600" y="0"/>
            <a:ext cx="6360480" cy="6677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هكذا يلهَفُ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قلبي إليك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أنتَ الهِدايةُ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أنتَ الرجاء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" dur="10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54" name=""/>
          <p:cNvSpPr/>
          <p:nvPr/>
        </p:nvSpPr>
        <p:spPr>
          <a:xfrm>
            <a:off x="0" y="1989000"/>
            <a:ext cx="5545080" cy="2820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ربّي جسدُكَ مأكَلٌ حقاً ربّي دَمُكَ مشرَبٌ حقاً طوبى لمن يرتَوي منهما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56" name=""/>
          <p:cNvSpPr/>
          <p:nvPr/>
        </p:nvSpPr>
        <p:spPr>
          <a:xfrm>
            <a:off x="4788000" y="1989000"/>
            <a:ext cx="4356000" cy="2820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من يأكل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من خبزِ الله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مَن يشرَب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من خمرِ الله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468600" y="189000"/>
            <a:ext cx="6636240" cy="536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يرث الحياةَ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الأبدية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يُعطى السعادةَ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في دُنياه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" dur="1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59" name=""/>
          <p:cNvSpPr/>
          <p:nvPr/>
        </p:nvSpPr>
        <p:spPr>
          <a:xfrm>
            <a:off x="0" y="1989000"/>
            <a:ext cx="5545080" cy="2820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ربّي جسدُكَ مأكَلٌ حقاً ربّي دَمُكَ مشرَبٌ حقاً طوبى لمن يرتَوي منهما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8T20:45:08Z</dcterms:created>
  <dc:creator>Charbel Azar</dc:creator>
  <dc:description/>
  <dc:language>en-US</dc:language>
  <cp:lastModifiedBy>ف</cp:lastModifiedBy>
  <dcterms:modified xsi:type="dcterms:W3CDTF">2006-04-17T23:27:04Z</dcterms:modified>
  <cp:revision>16</cp:revision>
  <dc:subject/>
  <dc:title>PowerPoint Presentation</dc:title>
</cp:coreProperties>
</file>